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52349-92C9-4A09-BD46-E320ACED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903B-3A45-4A8C-8681-93D2B299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7E88-034E-42F0-9EFA-6955C0651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B6FA9-AB67-4C75-AE63-D64386739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3668B-48B3-4CF2-B6C0-9F193816E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AA095-4776-4D40-BD33-E8B74FD4C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B2676-D41C-4184-8DE3-7DCA543D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3857D-D381-432E-9355-219B5A7C2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18388-C846-4AE2-8643-815CC9AFA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725C-BDBD-487E-9839-372F2F7AE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5017-6965-45B2-AD09-78144CA1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5C11D-5C33-45D3-B853-D8F267D4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42625-B3D7-4E73-9055-EE8FF0BB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0A83-C4E0-48C0-BA20-2A586F1FB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565A0-92C9-4602-AC92-43B8D7739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77B27-843F-4F89-A58D-139699ECC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A9C73-C22E-40E2-B0EB-0E03DFAB6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13D9-0B67-40D5-AB13-C0422691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DE0D-837F-45FD-A1DB-091A324B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8093-AD1C-4D33-BCD5-79ED20B0C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8D92-2C95-420C-A69D-86A532BA6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1B5B-BA8A-42DB-BE30-99429882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FAEE-1DD7-400E-85F1-470E3E99B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100D-9822-427D-8087-F3E3E2C1D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4080" y="-21240"/>
            <a:ext cx="2869560" cy="3275280"/>
            <a:chOff x="6274080" y="-21240"/>
            <a:chExt cx="286956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4080" y="-21240"/>
              <a:ext cx="2869560" cy="2268360"/>
              <a:chOff x="6274080" y="-21240"/>
              <a:chExt cx="286956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4080" y="-21240"/>
                <a:ext cx="2866320" cy="2268360"/>
                <a:chOff x="6274080" y="-21240"/>
                <a:chExt cx="2866320" cy="2268360"/>
              </a:xfrm>
            </p:grpSpPr>
            <p:grpSp>
              <p:nvGrpSpPr>
                <p:cNvPr id="15" name="Group 17"/>
                <p:cNvGrpSpPr/>
                <p:nvPr/>
              </p:nvGrpSpPr>
              <p:grpSpPr>
                <a:xfrm>
                  <a:off x="7832880" y="843480"/>
                  <a:ext cx="1063440" cy="1140840"/>
                  <a:chOff x="7832880" y="843480"/>
                  <a:chExt cx="1063440" cy="1140840"/>
                </a:xfrm>
              </p:grpSpPr>
              <p:sp>
                <p:nvSpPr>
                  <p:cNvPr id="16" name="Freeform 18"/>
                  <p:cNvSpPr/>
                  <p:nvPr/>
                </p:nvSpPr>
                <p:spPr>
                  <a:xfrm rot="2711400">
                    <a:off x="7758360" y="1135080"/>
                    <a:ext cx="88920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8520" y="1605240"/>
                    <a:ext cx="46800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6480" y="695880"/>
                  <a:ext cx="1303920" cy="668880"/>
                  <a:chOff x="7836480" y="695880"/>
                  <a:chExt cx="1303920" cy="668880"/>
                </a:xfrm>
              </p:grpSpPr>
              <p:sp>
                <p:nvSpPr>
                  <p:cNvPr id="25" name="Freeform 27"/>
                  <p:cNvSpPr/>
                  <p:nvPr/>
                </p:nvSpPr>
                <p:spPr>
                  <a:xfrm rot="1080000">
                    <a:off x="7842960" y="824400"/>
                    <a:ext cx="861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3680" y="1037160"/>
                    <a:ext cx="456840" cy="26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880" y="709920"/>
                    <a:ext cx="7920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6040" y="800280"/>
                    <a:ext cx="425160" cy="24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840" y="419760"/>
                  <a:ext cx="984240" cy="326520"/>
                  <a:chOff x="7845840" y="419760"/>
                  <a:chExt cx="984240" cy="326520"/>
                </a:xfrm>
              </p:grpSpPr>
              <p:sp>
                <p:nvSpPr>
                  <p:cNvPr id="34" name="Freeform 36"/>
                  <p:cNvSpPr/>
                  <p:nvPr/>
                </p:nvSpPr>
                <p:spPr>
                  <a:xfrm rot="20797200">
                    <a:off x="7849440" y="567360"/>
                    <a:ext cx="63180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6920" y="456480"/>
                    <a:ext cx="33696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9760" y="907200"/>
                  <a:ext cx="1061640" cy="1141560"/>
                  <a:chOff x="6539760" y="907200"/>
                  <a:chExt cx="1061640" cy="1141560"/>
                </a:xfrm>
              </p:grpSpPr>
              <p:sp>
                <p:nvSpPr>
                  <p:cNvPr id="37" name="Freeform 39"/>
                  <p:cNvSpPr/>
                  <p:nvPr/>
                </p:nvSpPr>
                <p:spPr>
                  <a:xfrm flipH="1" rot="18888600">
                    <a:off x="6795720" y="1196640"/>
                    <a:ext cx="880200" cy="154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60280" y="1664640"/>
                    <a:ext cx="471600" cy="254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6480" cy="1052280"/>
                  <a:chOff x="6303960" y="861840"/>
                  <a:chExt cx="1266480" cy="1052280"/>
                </a:xfrm>
              </p:grpSpPr>
              <p:sp>
                <p:nvSpPr>
                  <p:cNvPr id="40"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7040" y="827280"/>
                  <a:ext cx="1287720" cy="828720"/>
                  <a:chOff x="6287040" y="827280"/>
                  <a:chExt cx="1287720" cy="828720"/>
                </a:xfrm>
              </p:grpSpPr>
              <p:sp>
                <p:nvSpPr>
                  <p:cNvPr id="43"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4080" y="787320"/>
                  <a:ext cx="1302120" cy="668520"/>
                  <a:chOff x="6274080" y="787320"/>
                  <a:chExt cx="1302120" cy="668520"/>
                </a:xfrm>
              </p:grpSpPr>
              <p:sp>
                <p:nvSpPr>
                  <p:cNvPr id="46"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920" cy="416160"/>
                  <a:chOff x="6338880" y="749520"/>
                  <a:chExt cx="1222920" cy="416160"/>
                </a:xfrm>
              </p:grpSpPr>
              <p:sp>
                <p:nvSpPr>
                  <p:cNvPr id="49"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5480" cy="809280"/>
                  <a:chOff x="7287480" y="-21240"/>
                  <a:chExt cx="465480" cy="809280"/>
                </a:xfrm>
              </p:grpSpPr>
              <p:sp>
                <p:nvSpPr>
                  <p:cNvPr id="70" name="Freeform 72"/>
                  <p:cNvSpPr/>
                  <p:nvPr/>
                </p:nvSpPr>
                <p:spPr>
                  <a:xfrm flipH="1" rot="4126800">
                    <a:off x="7333560" y="461160"/>
                    <a:ext cx="54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3800" y="61200"/>
                    <a:ext cx="2959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600"/>
                  <a:ext cx="964080" cy="461160"/>
                  <a:chOff x="7792920" y="273600"/>
                  <a:chExt cx="964080" cy="461160"/>
                </a:xfrm>
              </p:grpSpPr>
              <p:sp>
                <p:nvSpPr>
                  <p:cNvPr id="73" name="Freeform 75"/>
                  <p:cNvSpPr/>
                  <p:nvPr/>
                </p:nvSpPr>
                <p:spPr>
                  <a:xfrm rot="20274000">
                    <a:off x="7790400" y="509400"/>
                    <a:ext cx="63036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7520"/>
                  <a:ext cx="916560" cy="604440"/>
                  <a:chOff x="7737840" y="137520"/>
                  <a:chExt cx="916560" cy="604440"/>
                </a:xfrm>
              </p:grpSpPr>
              <p:sp>
                <p:nvSpPr>
                  <p:cNvPr id="76"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6200" y="-11160"/>
                  <a:ext cx="497520" cy="790560"/>
                  <a:chOff x="7666200" y="-11160"/>
                  <a:chExt cx="497520" cy="790560"/>
                </a:xfrm>
              </p:grpSpPr>
              <p:sp>
                <p:nvSpPr>
                  <p:cNvPr id="81" name="Freeform 83"/>
                  <p:cNvSpPr/>
                  <p:nvPr/>
                </p:nvSpPr>
                <p:spPr>
                  <a:xfrm rot="17742000">
                    <a:off x="7555320" y="467280"/>
                    <a:ext cx="54180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160" y="79200"/>
                    <a:ext cx="29412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30960"/>
                  <a:ext cx="916200" cy="1248120"/>
                  <a:chOff x="6711120" y="930960"/>
                  <a:chExt cx="916200" cy="1248120"/>
                </a:xfrm>
              </p:grpSpPr>
              <p:sp>
                <p:nvSpPr>
                  <p:cNvPr id="90" name="Freeform 92"/>
                  <p:cNvSpPr/>
                  <p:nvPr/>
                </p:nvSpPr>
                <p:spPr>
                  <a:xfrm flipH="1" rot="18336000">
                    <a:off x="6852600" y="1261800"/>
                    <a:ext cx="8964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5320" y="979560"/>
                  <a:ext cx="618120" cy="1248120"/>
                  <a:chOff x="7015320" y="979560"/>
                  <a:chExt cx="618120" cy="1248120"/>
                </a:xfrm>
              </p:grpSpPr>
              <p:sp>
                <p:nvSpPr>
                  <p:cNvPr id="93" name="Freeform 95"/>
                  <p:cNvSpPr/>
                  <p:nvPr/>
                </p:nvSpPr>
                <p:spPr>
                  <a:xfrm flipH="1" rot="17543400">
                    <a:off x="6986160" y="1313280"/>
                    <a:ext cx="8298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160" y="1852560"/>
                    <a:ext cx="4366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320" y="1001160"/>
                  <a:ext cx="364320" cy="1217520"/>
                  <a:chOff x="7312320" y="1001160"/>
                  <a:chExt cx="364320" cy="1217520"/>
                </a:xfrm>
              </p:grpSpPr>
              <p:sp>
                <p:nvSpPr>
                  <p:cNvPr id="96" name="Freeform 98"/>
                  <p:cNvSpPr/>
                  <p:nvPr/>
                </p:nvSpPr>
                <p:spPr>
                  <a:xfrm flipH="1" rot="16870800">
                    <a:off x="7135920" y="1328400"/>
                    <a:ext cx="78660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0760" y="1878480"/>
                    <a:ext cx="422280" cy="22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680" y="1289160"/>
                    <a:ext cx="84528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79480" y="1839960"/>
                    <a:ext cx="45504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560" y="1005120"/>
                  <a:ext cx="510840" cy="1242000"/>
                  <a:chOff x="7756560" y="1005120"/>
                  <a:chExt cx="510840" cy="1242000"/>
                </a:xfrm>
              </p:grpSpPr>
              <p:sp>
                <p:nvSpPr>
                  <p:cNvPr id="105" name="Freeform 107"/>
                  <p:cNvSpPr/>
                  <p:nvPr/>
                </p:nvSpPr>
                <p:spPr>
                  <a:xfrm rot="4286400">
                    <a:off x="7534440" y="1353600"/>
                    <a:ext cx="8258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1480" y="1906560"/>
                    <a:ext cx="4424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400"/>
                  <a:ext cx="290520" cy="1156320"/>
                  <a:chOff x="7733880" y="1058400"/>
                  <a:chExt cx="290520" cy="1156320"/>
                </a:xfrm>
              </p:grpSpPr>
              <p:sp>
                <p:nvSpPr>
                  <p:cNvPr id="108" name="Freeform 110"/>
                  <p:cNvSpPr/>
                  <p:nvPr/>
                </p:nvSpPr>
                <p:spPr>
                  <a:xfrm rot="4898400">
                    <a:off x="7475400" y="1375920"/>
                    <a:ext cx="751320" cy="126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120" y="1899000"/>
                    <a:ext cx="40860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240" y="1077840"/>
                  <a:ext cx="277200" cy="1131480"/>
                  <a:chOff x="7500240" y="1077840"/>
                  <a:chExt cx="277200" cy="1131480"/>
                </a:xfrm>
              </p:grpSpPr>
              <p:sp>
                <p:nvSpPr>
                  <p:cNvPr id="111" name="Freeform 113"/>
                  <p:cNvSpPr/>
                  <p:nvPr/>
                </p:nvSpPr>
                <p:spPr>
                  <a:xfrm rot="5755200">
                    <a:off x="7317720" y="1405800"/>
                    <a:ext cx="74664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5840" y="1926720"/>
                    <a:ext cx="39996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0D63-1351-4A2C-A97D-4F259874AF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7320"/>
              <a:ext cx="945720" cy="709920"/>
              <a:chOff x="3484080" y="967320"/>
              <a:chExt cx="945720" cy="709920"/>
            </a:xfrm>
          </p:grpSpPr>
          <p:sp>
            <p:nvSpPr>
              <p:cNvPr id="178" name="Oval 4"/>
              <p:cNvSpPr/>
              <p:nvPr/>
            </p:nvSpPr>
            <p:spPr>
              <a:xfrm>
                <a:off x="3484080" y="96732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7908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60040" y="269640"/>
                    <a:ext cx="1189800" cy="1890000"/>
                    <a:chOff x="5360040" y="269640"/>
                    <a:chExt cx="1189800" cy="1890000"/>
                  </a:xfrm>
                </p:grpSpPr>
                <p:sp>
                  <p:nvSpPr>
                    <p:cNvPr id="252" name="Freeform 78"/>
                    <p:cNvSpPr/>
                    <p:nvPr/>
                  </p:nvSpPr>
                  <p:spPr>
                    <a:xfrm rot="17742000">
                      <a:off x="5091840" y="1408320"/>
                      <a:ext cx="13068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0440" y="2641320"/>
                    <a:ext cx="1482480" cy="3008520"/>
                    <a:chOff x="3790440" y="2641320"/>
                    <a:chExt cx="1482480" cy="3008520"/>
                  </a:xfrm>
                </p:grpSpPr>
                <p:sp>
                  <p:nvSpPr>
                    <p:cNvPr id="264" name="Freeform 90"/>
                    <p:cNvSpPr/>
                    <p:nvPr/>
                  </p:nvSpPr>
                  <p:spPr>
                    <a:xfrm flipH="1" rot="17543400">
                      <a:off x="3736800" y="3432960"/>
                      <a:ext cx="196884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2160" y="2689200"/>
                    <a:ext cx="873360" cy="2937960"/>
                    <a:chOff x="4502160" y="2689200"/>
                    <a:chExt cx="873360" cy="2937960"/>
                  </a:xfrm>
                </p:grpSpPr>
                <p:sp>
                  <p:nvSpPr>
                    <p:cNvPr id="267" name="Freeform 93"/>
                    <p:cNvSpPr/>
                    <p:nvPr/>
                  </p:nvSpPr>
                  <p:spPr>
                    <a:xfrm flipH="1" rot="16870800">
                      <a:off x="4074840" y="3478320"/>
                      <a:ext cx="18939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59960" y="4805280"/>
                      <a:ext cx="1013040" cy="54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46720"/>
                    <a:ext cx="1758240" cy="293904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0200"/>
                    <a:ext cx="940680" cy="2844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59600"/>
              <a:ext cx="6411960" cy="4711680"/>
              <a:chOff x="2343960" y="759600"/>
              <a:chExt cx="6411960" cy="4711680"/>
            </a:xfrm>
          </p:grpSpPr>
          <p:sp>
            <p:nvSpPr>
              <p:cNvPr id="295" name="Freeform 121"/>
              <p:cNvSpPr/>
              <p:nvPr/>
            </p:nvSpPr>
            <p:spPr>
              <a:xfrm flipH="1">
                <a:off x="4470840" y="328356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628000"/>
                <a:ext cx="2617200" cy="28432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70080"/>
                <a:ext cx="1534320" cy="29361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86320"/>
                <a:ext cx="2930760" cy="29361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98520"/>
                <a:ext cx="46980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84840"/>
                <a:ext cx="12380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9568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9484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432960"/>
                <a:ext cx="133848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45760"/>
                <a:ext cx="85824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56480"/>
                <a:ext cx="124200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57840"/>
                <a:ext cx="187236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59600"/>
                <a:ext cx="819000" cy="1769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20212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B199-2504-4B54-AA86-4B6E64757564}"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 Legislative Branch</a:t>
            </a:r>
            <a:endParaRPr b="0" lang="en-US" sz="48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House of Representative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Leadership</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of the House is chosen by the majority party of the House of Representative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of the House is third in the line of Presidential succession.</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is in charge of the House of Representativ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Speaker of the House</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John Boehner of Ohio (Republican) is the current speaker of the House of Representative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72" name="Picture 3" descr="220px-John_Boehner_official_portrait.jpg"/>
          <p:cNvPicPr/>
          <p:nvPr/>
        </p:nvPicPr>
        <p:blipFill>
          <a:blip r:embed="rId1"/>
          <a:stretch/>
        </p:blipFill>
        <p:spPr>
          <a:xfrm>
            <a:off x="3505320" y="4038480"/>
            <a:ext cx="16002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and Minority Leaders</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se individuals are also referred to as the Floor Leaders of their respective parti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job of these individuals is to ensure that the laws passed by Congress are in the best interest of the country and their own political part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Leader</a:t>
            </a:r>
            <a:endParaRPr b="0" lang="en-US" sz="4400" spc="-1" strike="noStrike">
              <a:solidFill>
                <a:srgbClr val="ffffff"/>
              </a:solidFill>
              <a:latin typeface="Arial Black"/>
            </a:endParaRPr>
          </a:p>
        </p:txBody>
      </p:sp>
      <p:sp>
        <p:nvSpPr>
          <p:cNvPr id="37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Eric Cantor of Virginia (Republican)</a:t>
            </a:r>
            <a:endParaRPr b="0" lang="en-US" sz="3200" spc="-1" strike="noStrike">
              <a:solidFill>
                <a:srgbClr val="ffcc00"/>
              </a:solidFill>
              <a:latin typeface="Arial Black"/>
            </a:endParaRPr>
          </a:p>
        </p:txBody>
      </p:sp>
      <p:pic>
        <p:nvPicPr>
          <p:cNvPr id="377" name="Picture 4" descr="225px-Eric_Cantor_headshot.png"/>
          <p:cNvPicPr/>
          <p:nvPr/>
        </p:nvPicPr>
        <p:blipFill>
          <a:blip r:embed="rId1"/>
          <a:stretch/>
        </p:blipFill>
        <p:spPr>
          <a:xfrm>
            <a:off x="3276720" y="3124080"/>
            <a:ext cx="2143080" cy="26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inority Leader</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woman Nancy Pelosi of California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0" name="Picture 3" descr="225px-Speaker_Nancy_Pelosi.jpg"/>
          <p:cNvPicPr/>
          <p:nvPr/>
        </p:nvPicPr>
        <p:blipFill>
          <a:blip r:embed="rId1"/>
          <a:stretch/>
        </p:blipFill>
        <p:spPr>
          <a:xfrm>
            <a:off x="3505320" y="3124080"/>
            <a:ext cx="190476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rty Whips</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job of the whip is to assist the majority leader (floor leader) by keeping track of how party members vote and to persuade all members of his or her party to vote together on issu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Whip</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Kevin McCarthy of California (Republican)</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5" name="Picture 4" descr="225px-McCarthyofficial.jpg"/>
          <p:cNvPicPr/>
          <p:nvPr/>
        </p:nvPicPr>
        <p:blipFill>
          <a:blip r:embed="rId1"/>
          <a:stretch/>
        </p:blipFill>
        <p:spPr>
          <a:xfrm>
            <a:off x="3505320" y="3200400"/>
            <a:ext cx="2143080" cy="26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inority Whip</a:t>
            </a: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Steny Hoyer of Maryland (Democr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8" name="Picture 3" descr="225px-Steny_Hoyer,_official_photo_portrait,_2008.jpg"/>
          <p:cNvPicPr/>
          <p:nvPr/>
        </p:nvPicPr>
        <p:blipFill>
          <a:blip r:embed="rId1"/>
          <a:stretch/>
        </p:blipFill>
        <p:spPr>
          <a:xfrm>
            <a:off x="2971800" y="3124080"/>
            <a:ext cx="28576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 and Term of Office (House)</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very </a:t>
            </a:r>
            <a:r>
              <a:rPr b="0" lang="en-US" sz="4000" spc="-1" strike="noStrike">
                <a:solidFill>
                  <a:srgbClr val="ff0000"/>
                </a:solidFill>
                <a:latin typeface="Arial Black"/>
              </a:rPr>
              <a:t>two years </a:t>
            </a:r>
            <a:r>
              <a:rPr b="0" lang="en-US" sz="4000" spc="-1" strike="noStrike">
                <a:solidFill>
                  <a:srgbClr val="ffcc00"/>
                </a:solidFill>
                <a:latin typeface="Arial Black"/>
              </a:rPr>
              <a:t>voters elect their member of the House of Representatives.</a:t>
            </a:r>
            <a:endParaRPr b="0" lang="en-US" sz="4000" spc="-1" strike="noStrike">
              <a:solidFill>
                <a:srgbClr val="ffcc00"/>
              </a:solidFill>
              <a:latin typeface="Arial Black"/>
            </a:endParaRPr>
          </a:p>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very member of the House of Representatives serves a </a:t>
            </a:r>
            <a:r>
              <a:rPr b="0" lang="en-US" sz="4000" spc="-1" strike="noStrike">
                <a:solidFill>
                  <a:srgbClr val="ff0000"/>
                </a:solidFill>
                <a:latin typeface="Arial Black"/>
              </a:rPr>
              <a:t>two year term</a:t>
            </a:r>
            <a:r>
              <a:rPr b="0" lang="en-US" sz="4000" spc="-1" strike="noStrike">
                <a:solidFill>
                  <a:srgbClr val="ffcc00"/>
                </a:solidFill>
                <a:latin typeface="Arial Black"/>
              </a:rPr>
              <a:t>.</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 and Term of Office (Continued)</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Constitution </a:t>
            </a:r>
            <a:r>
              <a:rPr b="0" lang="en-US" sz="4000" spc="-1" strike="noStrike">
                <a:solidFill>
                  <a:srgbClr val="ff0000"/>
                </a:solidFill>
                <a:latin typeface="Arial Black"/>
              </a:rPr>
              <a:t>does not limit the number of terms </a:t>
            </a:r>
            <a:r>
              <a:rPr b="0" lang="en-US" sz="4000" spc="-1" strike="noStrike">
                <a:solidFill>
                  <a:srgbClr val="ffcc00"/>
                </a:solidFill>
                <a:latin typeface="Arial Black"/>
              </a:rPr>
              <a:t>that a representative may ser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Qualifications (House)</a:t>
            </a:r>
            <a:br>
              <a:rPr sz="4400"/>
            </a:b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o serve in the House of Representatives the following qualifications must be met:</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t least 25 years of age</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 citizen of the United States for at least 7 years</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 resident of the state that he/she represent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a:t>
            </a:r>
            <a:br>
              <a:rPr sz="4000"/>
            </a:br>
            <a:endParaRPr b="0" lang="en-US" sz="40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number of members of the House of Representatives is fixed at 435. It has been set at </a:t>
            </a:r>
            <a:r>
              <a:rPr b="0" lang="en-US" sz="2800" spc="-1" strike="noStrike">
                <a:solidFill>
                  <a:srgbClr val="ff0000"/>
                </a:solidFill>
                <a:latin typeface="Arial Black"/>
              </a:rPr>
              <a:t>435</a:t>
            </a:r>
            <a:r>
              <a:rPr b="0" lang="en-US" sz="2800" spc="-1" strike="noStrike">
                <a:solidFill>
                  <a:srgbClr val="ffcc00"/>
                </a:solidFill>
                <a:latin typeface="Arial Black"/>
              </a:rPr>
              <a:t> since Congress made this law in 1929.</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number of Congressional Representatives that a state has is based upon its population as determined by census. </a:t>
            </a:r>
            <a:r>
              <a:rPr b="0" lang="en-US" sz="2800" spc="-1" strike="noStrike">
                <a:solidFill>
                  <a:srgbClr val="ff0000"/>
                </a:solidFill>
                <a:latin typeface="Arial Black"/>
              </a:rPr>
              <a:t>The census is taken every ten year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 Continued</a:t>
            </a:r>
            <a:endParaRPr b="0" lang="en-US" sz="40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s of the 2000 census, the average population per Congressional district is 646, 946.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lifornia has the most members of the House of Representatives (53).</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 Continued</a:t>
            </a: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aska, Delaware, Montana, North Dakota, South Dakota, Vermont, and Wyoming each have 1 member of the Hous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nessee has 9 members of the House of Representativ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ak Ridge, Tennessee</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ak Ridge is located in the 3</a:t>
            </a:r>
            <a:r>
              <a:rPr b="0" lang="en-US" sz="2800" spc="-1" strike="noStrike" baseline="30000">
                <a:solidFill>
                  <a:srgbClr val="ffcc00"/>
                </a:solidFill>
                <a:latin typeface="Arial Black"/>
              </a:rPr>
              <a:t>rd</a:t>
            </a:r>
            <a:r>
              <a:rPr b="0" lang="en-US" sz="2800" spc="-1" strike="noStrike">
                <a:solidFill>
                  <a:srgbClr val="ffcc00"/>
                </a:solidFill>
                <a:latin typeface="Arial Black"/>
              </a:rPr>
              <a:t> Tennessee Congressional Distric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gressman Chuck Fleischmann is the representative of the 3</a:t>
            </a:r>
            <a:r>
              <a:rPr b="0" lang="en-US" sz="2800" spc="-1" strike="noStrike" baseline="30000">
                <a:solidFill>
                  <a:srgbClr val="ffcc00"/>
                </a:solidFill>
                <a:latin typeface="Arial Black"/>
              </a:rPr>
              <a:t>rd</a:t>
            </a:r>
            <a:r>
              <a:rPr b="0" lang="en-US" sz="2800" spc="-1" strike="noStrike">
                <a:solidFill>
                  <a:srgbClr val="ffcc00"/>
                </a:solidFill>
                <a:latin typeface="Arial Black"/>
              </a:rPr>
              <a:t> Congressional District of Tennessee.</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gressman Chuck Fleischmann</a:t>
            </a:r>
            <a:endParaRPr b="0" lang="en-US" sz="2800" spc="-1" strike="noStrike">
              <a:solidFill>
                <a:srgbClr val="ffffff"/>
              </a:solidFill>
              <a:latin typeface="Arial Black"/>
            </a:endParaRPr>
          </a:p>
        </p:txBody>
      </p:sp>
      <p:pic>
        <p:nvPicPr>
          <p:cNvPr id="367" name="Content Placeholder 4" descr="225px-Chuck_Flieschmann,_Official_Portrait,_112th_Congress.jpg"/>
          <p:cNvPicPr/>
          <p:nvPr/>
        </p:nvPicPr>
        <p:blipFill>
          <a:blip r:embed="rId1"/>
          <a:stretch/>
        </p:blipFill>
        <p:spPr>
          <a:xfrm>
            <a:off x="3206880" y="1981080"/>
            <a:ext cx="27302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8:40:33Z</dcterms:created>
  <dc:creator>Sys Admin</dc:creator>
  <dc:description/>
  <dc:language>en-US</dc:language>
  <cp:lastModifiedBy>SysAdmin</cp:lastModifiedBy>
  <dcterms:modified xsi:type="dcterms:W3CDTF">2011-09-22T11:50:54Z</dcterms:modified>
  <cp:revision>108</cp:revision>
  <dc:subject/>
  <dc:title>Unit 2</dc:title>
</cp:coreProperties>
</file>